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9F0-F6BE-4396-BF59-E7A43DED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349-0218-460E-AAEB-87D44776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41F-3391-4F4D-8FA9-4867D466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32E-F3CC-4C19-B022-6F15B3AA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AF7-0221-4628-BAC4-1BBB804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3BC-87F7-4D18-9E4D-15017D74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09D-C1D7-4B6C-A435-CF950138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A1E-2241-42BE-B96A-8D23E7B9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F42-E060-4D2B-A619-87ABC9E3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557-321B-4F99-BE4B-F09C85DB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2D5-9F84-471E-B820-29B9191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1E8-81B6-4563-903E-83BBD02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F5DD-6306-4D53-9CC8-946AF40C5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2209680"/>
            <a:ext cx="7162560" cy="14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ol Mark Identif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57480" cy="2039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1816200" cy="128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5880" y="685800"/>
            <a:ext cx="1663920" cy="97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1562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 in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Known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match each know sample with the tool that made the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2 suspec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match the suspect blocks with the tools that made the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your data on your Lab data sheet page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clay and make a mold of the crime scene ev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cast of each of the suspect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match the crime scene evidence to the appropriate suspect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your findings on data table and write an explanation of why you believe the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5:06:23Z</dcterms:created>
  <dc:creator>Greg Neff</dc:creator>
  <dc:description/>
  <dc:language>en-US</dc:language>
  <cp:lastModifiedBy>Greg Neff</cp:lastModifiedBy>
  <dcterms:modified xsi:type="dcterms:W3CDTF">2008-03-04T15:24:03Z</dcterms:modified>
  <cp:revision>3</cp:revision>
  <dc:subject/>
  <dc:title>PowerPoint Presentation</dc:title>
</cp:coreProperties>
</file>